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1365-B173-4919-BF9C-4F888DE03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FDBF-6CC2-406E-BBB4-013B61819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8F32-6D0C-4472-A6AA-E8A0347DF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2669-D20F-45C2-8DD8-6D7680121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BADD-E8BA-43F0-9378-8E9D8D570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3771-D047-4A5F-ACFB-9D7D9EA16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1844-5DD8-4ADE-899B-6467653BD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41FD-3DB2-4F80-9EEC-327446CF9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7D34-D867-4C6B-ABFE-CCFE09E9D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B21E-6FF0-4075-A1CE-0B1A5CCA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2157-034F-4180-9735-ED6579F2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7A1E-3595-40E2-BA32-C3C14E9F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F36A8-9631-43E0-9AC9-363515991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15.wmf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914400" y="0"/>
            <a:ext cx="632448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How do I write a 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friendly letter?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Picture 6" descr="BD05415_"/>
          <p:cNvPicPr/>
          <p:nvPr/>
        </p:nvPicPr>
        <p:blipFill>
          <a:blip r:embed="rId1"/>
          <a:stretch/>
        </p:blipFill>
        <p:spPr>
          <a:xfrm>
            <a:off x="4267080" y="3200400"/>
            <a:ext cx="4237200" cy="339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4267080" y="3124080"/>
          <a:ext cx="609840" cy="60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67080" y="3124080"/>
                    <a:ext cx="6098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Text Box 10"/>
          <p:cNvSpPr/>
          <p:nvPr/>
        </p:nvSpPr>
        <p:spPr>
          <a:xfrm>
            <a:off x="0" y="5715000"/>
            <a:ext cx="44956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sentation by Barbara Cloninger-June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iz by Vanda Sue Bell-September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3130560" y="512640"/>
            <a:ext cx="162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6329520" y="533520"/>
            <a:ext cx="18288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11 East Duke Stre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nley, N.C.  2816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gust 15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4"/>
          <p:cNvSpPr/>
          <p:nvPr/>
        </p:nvSpPr>
        <p:spPr>
          <a:xfrm>
            <a:off x="4119480" y="914400"/>
            <a:ext cx="22100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362320" y="152388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380880" y="1371600"/>
            <a:ext cx="99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ar Phil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7"/>
          <p:cNvSpPr/>
          <p:nvPr/>
        </p:nvSpPr>
        <p:spPr>
          <a:xfrm flipH="1" flipV="1">
            <a:off x="1523520" y="15238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380880" y="2057400"/>
            <a:ext cx="8305920" cy="186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 has your summer been?  Not too hot I hope.   Did you get to visit your grandparents?  Did you go on your trip to Toronto as you had hoped?  They say Toronto is a beautiful cit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is my second season at Camp Bellaire.  I just passed my swimming test.  Now I can swim out to the raft and also use the boats.  To pass I had to jump into the water with my clothes on (as if I had just fallen out of a boat).  Then I had to take them off down to my trunks, even my shoes and socks, and finally swim back to shore.  It was tough, but I did it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’m looking forward to seeing you soon.  There is lots of news to catch up on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6858000" y="25146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6477120" y="14479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1"/>
          <p:cNvSpPr/>
          <p:nvPr/>
        </p:nvSpPr>
        <p:spPr>
          <a:xfrm>
            <a:off x="723888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5257800" y="4191120"/>
            <a:ext cx="3429000" cy="764280"/>
          </a:xfrm>
          <a:prstGeom prst="rect">
            <a:avLst/>
          </a:prstGeom>
          <a:solidFill>
            <a:srgbClr val="d82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ie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5410080" y="5181480"/>
            <a:ext cx="2057400" cy="764280"/>
          </a:xfrm>
          <a:prstGeom prst="rect">
            <a:avLst/>
          </a:prstGeom>
          <a:solidFill>
            <a:srgbClr val="d82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llegro BT"/>
              </a:rPr>
              <a:t>Mi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1523880" y="4191120"/>
            <a:ext cx="2133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o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ign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5"/>
          <p:cNvSpPr/>
          <p:nvPr/>
        </p:nvSpPr>
        <p:spPr>
          <a:xfrm>
            <a:off x="3352680" y="44197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6"/>
          <p:cNvSpPr/>
          <p:nvPr/>
        </p:nvSpPr>
        <p:spPr>
          <a:xfrm>
            <a:off x="3505320" y="5334120"/>
            <a:ext cx="1752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2041560" y="1158840"/>
            <a:ext cx="17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5257800" y="533520"/>
            <a:ext cx="3200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1 East College Str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ley, N.C.  281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 15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4"/>
          <p:cNvSpPr/>
          <p:nvPr/>
        </p:nvSpPr>
        <p:spPr>
          <a:xfrm flipV="1">
            <a:off x="2971800" y="1143000"/>
            <a:ext cx="2286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4343400" y="175248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380880" y="1828800"/>
            <a:ext cx="3276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Phi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7"/>
          <p:cNvSpPr/>
          <p:nvPr/>
        </p:nvSpPr>
        <p:spPr>
          <a:xfrm flipH="1" flipV="1">
            <a:off x="3733920" y="2057040"/>
            <a:ext cx="7617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380880" y="2362320"/>
            <a:ext cx="8305920" cy="312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s your summer been?  Not too hot I hope.   Did you get to visit your grandparents?  Did you go on your trip to Toronto as you had hoped?  They say Toronto is a beautiful c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my second season at Camp Bellaire.  I just passed my swimming test.  Now I can swim out to the raft and also use the boats.  To pass I had to jump into the water with my clothes on (as if I had just fallen out of a boat).  Then I had to take them off down to my trunks, even my shoes and socks, and finally swim back to shore.  It was tough, but I did 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looking forward to seeing you soon.  There is lots of news to catch up 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6858000" y="25146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553080" y="1752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1"/>
          <p:cNvSpPr/>
          <p:nvPr/>
        </p:nvSpPr>
        <p:spPr>
          <a:xfrm>
            <a:off x="723888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5334120" y="586728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frien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5334120" y="6248520"/>
            <a:ext cx="2057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legro BT"/>
              </a:rPr>
              <a:t>M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4"/>
          <p:cNvSpPr/>
          <p:nvPr/>
        </p:nvSpPr>
        <p:spPr>
          <a:xfrm>
            <a:off x="1143000" y="5334120"/>
            <a:ext cx="2514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o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gn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5"/>
          <p:cNvSpPr/>
          <p:nvPr/>
        </p:nvSpPr>
        <p:spPr>
          <a:xfrm>
            <a:off x="3429000" y="60958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6"/>
          <p:cNvSpPr/>
          <p:nvPr/>
        </p:nvSpPr>
        <p:spPr>
          <a:xfrm flipV="1">
            <a:off x="3657600" y="6476760"/>
            <a:ext cx="16002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6">
            <a:hlinkClick r:id="rId1" action="ppaction://hlinksldjump"/>
          </p:cNvPr>
          <p:cNvSpPr/>
          <p:nvPr/>
        </p:nvSpPr>
        <p:spPr>
          <a:xfrm>
            <a:off x="2590920" y="2362320"/>
            <a:ext cx="32763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ar Phil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6858000" y="25146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447560" y="1219320"/>
            <a:ext cx="61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Click on the correct greet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8">
            <a:hlinkClick r:id="rId2" action="ppaction://hlinksldjump"/>
          </p:cNvPr>
          <p:cNvSpPr/>
          <p:nvPr/>
        </p:nvSpPr>
        <p:spPr>
          <a:xfrm>
            <a:off x="2590920" y="3276720"/>
            <a:ext cx="32763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ar Ph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9">
            <a:hlinkClick r:id="rId3" action="ppaction://hlinksldjump"/>
          </p:cNvPr>
          <p:cNvSpPr/>
          <p:nvPr/>
        </p:nvSpPr>
        <p:spPr>
          <a:xfrm>
            <a:off x="2590920" y="4191120"/>
            <a:ext cx="32763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ar Phil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0">
            <a:hlinkClick r:id="rId4" action="ppaction://hlinksldjump"/>
          </p:cNvPr>
          <p:cNvSpPr/>
          <p:nvPr/>
        </p:nvSpPr>
        <p:spPr>
          <a:xfrm>
            <a:off x="2590920" y="5105520"/>
            <a:ext cx="32763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ar phil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>
            <a:off x="6858000" y="25146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bs01884_[1]"/>
          <p:cNvPicPr/>
          <p:nvPr/>
        </p:nvPicPr>
        <p:blipFill>
          <a:blip r:embed="rId1"/>
          <a:stretch/>
        </p:blipFill>
        <p:spPr>
          <a:xfrm>
            <a:off x="1295280" y="2057400"/>
            <a:ext cx="649440" cy="6523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9"/>
          <p:cNvSpPr/>
          <p:nvPr/>
        </p:nvSpPr>
        <p:spPr>
          <a:xfrm>
            <a:off x="1904760" y="5334120"/>
            <a:ext cx="566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Slide 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ere to go bac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2057400" y="1295280"/>
            <a:ext cx="5791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ff"/>
                </a:solidFill>
                <a:latin typeface="Elephant"/>
              </a:rPr>
              <a:t>Sorry!  Try again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>
            <a:hlinkClick r:id="rId1" action="ppaction://hlinksldjump"/>
          </p:cNvPr>
          <p:cNvSpPr/>
          <p:nvPr/>
        </p:nvSpPr>
        <p:spPr>
          <a:xfrm>
            <a:off x="2590920" y="2362320"/>
            <a:ext cx="32763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ar Phil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6858000" y="25146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146240" y="685800"/>
            <a:ext cx="626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The greeting uses two capit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letters and a comm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>
            <a:hlinkClick r:id="rId2" action="ppaction://hlinksldjump"/>
          </p:cNvPr>
          <p:cNvSpPr/>
          <p:nvPr/>
        </p:nvSpPr>
        <p:spPr>
          <a:xfrm>
            <a:off x="2590920" y="3276720"/>
            <a:ext cx="32763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ar Ph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2590920" y="4191120"/>
            <a:ext cx="3276360" cy="70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ar Phil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>
            <a:hlinkClick r:id="rId3" action="ppaction://hlinksldjump"/>
          </p:cNvPr>
          <p:cNvSpPr/>
          <p:nvPr/>
        </p:nvSpPr>
        <p:spPr>
          <a:xfrm>
            <a:off x="2590920" y="5105520"/>
            <a:ext cx="32763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ar phil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8" descr="bs01886_[1]"/>
          <p:cNvPicPr/>
          <p:nvPr/>
        </p:nvPicPr>
        <p:blipFill>
          <a:blip r:embed="rId4"/>
          <a:stretch/>
        </p:blipFill>
        <p:spPr>
          <a:xfrm>
            <a:off x="1523880" y="4114800"/>
            <a:ext cx="900360" cy="903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"/>
          <p:cNvPicPr/>
          <p:nvPr/>
        </p:nvPicPr>
        <p:blipFill>
          <a:blip r:embed="rId5"/>
          <a:stretch/>
        </p:blipFill>
        <p:spPr>
          <a:xfrm>
            <a:off x="6019920" y="4114800"/>
            <a:ext cx="761760" cy="7207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0"/>
          <p:cNvSpPr/>
          <p:nvPr/>
        </p:nvSpPr>
        <p:spPr>
          <a:xfrm>
            <a:off x="5790600" y="609588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for NEXT questi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>
            <a:hlinkClick r:id="rId1" action="ppaction://hlinksldjump"/>
          </p:cNvPr>
          <p:cNvSpPr/>
          <p:nvPr/>
        </p:nvSpPr>
        <p:spPr>
          <a:xfrm>
            <a:off x="2590920" y="2362320"/>
            <a:ext cx="32763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r frie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6858000" y="25146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579680" y="1219320"/>
            <a:ext cx="59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Click on the correct clos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>
            <a:hlinkClick r:id="rId2" action="ppaction://hlinksldjump"/>
          </p:cNvPr>
          <p:cNvSpPr/>
          <p:nvPr/>
        </p:nvSpPr>
        <p:spPr>
          <a:xfrm>
            <a:off x="2590920" y="3276720"/>
            <a:ext cx="32763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r friend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>
            <a:hlinkClick r:id="rId3" action="ppaction://hlinksldjump"/>
          </p:cNvPr>
          <p:cNvSpPr/>
          <p:nvPr/>
        </p:nvSpPr>
        <p:spPr>
          <a:xfrm>
            <a:off x="2590920" y="4191120"/>
            <a:ext cx="32763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iend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>
            <a:hlinkClick r:id="rId4" action="ppaction://hlinksldjump"/>
          </p:cNvPr>
          <p:cNvSpPr/>
          <p:nvPr/>
        </p:nvSpPr>
        <p:spPr>
          <a:xfrm>
            <a:off x="2590920" y="5105520"/>
            <a:ext cx="32763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r friend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6858000" y="25146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3" descr="bs01884_[1]"/>
          <p:cNvPicPr/>
          <p:nvPr/>
        </p:nvPicPr>
        <p:blipFill>
          <a:blip r:embed="rId1"/>
          <a:stretch/>
        </p:blipFill>
        <p:spPr>
          <a:xfrm>
            <a:off x="1295280" y="2057400"/>
            <a:ext cx="649440" cy="65232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4"/>
          <p:cNvSpPr/>
          <p:nvPr/>
        </p:nvSpPr>
        <p:spPr>
          <a:xfrm>
            <a:off x="1904760" y="5334120"/>
            <a:ext cx="566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Slide 1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ere to go bac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2057400" y="1295280"/>
            <a:ext cx="5791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ff"/>
                </a:solidFill>
                <a:latin typeface="Elephant"/>
              </a:rPr>
              <a:t>Sorry!  Try again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2590920" y="2362320"/>
            <a:ext cx="32763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r frie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6858000" y="25146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984240" y="533520"/>
            <a:ext cx="7059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The closing has one capital let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and a comm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2590920" y="3276720"/>
            <a:ext cx="3276360" cy="70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r friend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2590920" y="4191120"/>
            <a:ext cx="32763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iend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2590920" y="5105520"/>
            <a:ext cx="32763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r friend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8" descr="bs01886_[1]"/>
          <p:cNvPicPr/>
          <p:nvPr/>
        </p:nvPicPr>
        <p:blipFill>
          <a:blip r:embed="rId1"/>
          <a:stretch/>
        </p:blipFill>
        <p:spPr>
          <a:xfrm>
            <a:off x="1447920" y="3200400"/>
            <a:ext cx="900000" cy="9032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"/>
          <p:cNvPicPr/>
          <p:nvPr/>
        </p:nvPicPr>
        <p:blipFill>
          <a:blip r:embed="rId2"/>
          <a:stretch/>
        </p:blipFill>
        <p:spPr>
          <a:xfrm>
            <a:off x="6019920" y="3429000"/>
            <a:ext cx="761760" cy="7207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10"/>
          <p:cNvSpPr/>
          <p:nvPr/>
        </p:nvSpPr>
        <p:spPr>
          <a:xfrm>
            <a:off x="5790600" y="609588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for NEXT questi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2514600" y="5029200"/>
            <a:ext cx="5867280" cy="1295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tween each letter part and paragraph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6858000" y="25146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1856160" y="685800"/>
            <a:ext cx="53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Where are lines skipp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2514600" y="3276720"/>
            <a:ext cx="5867280" cy="711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ly after the head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2514600" y="4191120"/>
            <a:ext cx="5867280" cy="711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tween each 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2514600" y="1828800"/>
            <a:ext cx="5867280" cy="1371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ly between the body and clo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900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6858000" y="25146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" descr="bs01884_[1]"/>
          <p:cNvPicPr/>
          <p:nvPr/>
        </p:nvPicPr>
        <p:blipFill>
          <a:blip r:embed="rId1"/>
          <a:stretch/>
        </p:blipFill>
        <p:spPr>
          <a:xfrm>
            <a:off x="1295280" y="2057400"/>
            <a:ext cx="649440" cy="6523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4"/>
          <p:cNvSpPr/>
          <p:nvPr/>
        </p:nvSpPr>
        <p:spPr>
          <a:xfrm>
            <a:off x="1904400" y="5334120"/>
            <a:ext cx="577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 Slide 18 here to go bac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2057400" y="1295280"/>
            <a:ext cx="5791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ff"/>
                </a:solidFill>
                <a:latin typeface="Elephant"/>
              </a:rPr>
              <a:t>Sorry!  Try again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785880" y="533520"/>
            <a:ext cx="754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write friendly letters to people we know well.  We might write a friendly letter to our parents, grandparents, or our frien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j0297733"/>
          <p:cNvPicPr/>
          <p:nvPr/>
        </p:nvPicPr>
        <p:blipFill>
          <a:blip r:embed="rId1"/>
          <a:stretch/>
        </p:blipFill>
        <p:spPr>
          <a:xfrm>
            <a:off x="2705040" y="3809880"/>
            <a:ext cx="3733920" cy="2590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2514600" y="5029200"/>
            <a:ext cx="5867280" cy="1295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tween each letter part and paragraph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6858000" y="25146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1856160" y="685800"/>
            <a:ext cx="53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Where are lines skipp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8" descr="bs01886_[1]"/>
          <p:cNvPicPr/>
          <p:nvPr/>
        </p:nvPicPr>
        <p:blipFill>
          <a:blip r:embed="rId1"/>
          <a:stretch/>
        </p:blipFill>
        <p:spPr>
          <a:xfrm>
            <a:off x="1447920" y="5181480"/>
            <a:ext cx="900000" cy="9032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"/>
          <p:cNvPicPr/>
          <p:nvPr/>
        </p:nvPicPr>
        <p:blipFill>
          <a:blip r:embed="rId2"/>
          <a:stretch/>
        </p:blipFill>
        <p:spPr>
          <a:xfrm>
            <a:off x="8153280" y="5257800"/>
            <a:ext cx="762120" cy="72072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10"/>
          <p:cNvSpPr/>
          <p:nvPr/>
        </p:nvSpPr>
        <p:spPr>
          <a:xfrm>
            <a:off x="151560" y="624852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for NEXT questi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5257800" y="533520"/>
            <a:ext cx="320040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1 East Duke Str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ley, N.C.  281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 15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380880" y="1828800"/>
            <a:ext cx="3276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Phi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380880" y="2362320"/>
            <a:ext cx="8305920" cy="312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s your summer been?  Not too hot I hope.   Did you get to visit your grandparents?  Did you go on your trip to Toronto as you had hoped?  They say Toronto is a beautiful c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my second season at Camp Bellaire.  I just passed my swimming test.  Now I can swim out to the raft and also use the boats.  To pass I had to jump into the water with my clothes on (as if I had just fallen out of a boat).  Then I had to take them off down to my trunks, even my shoes and socks, and finally swim back to shore.  It was tough, but I did 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looking forward to seeing you soon.  There is lots of news to catch up 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6858000" y="25146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5334120" y="586728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frien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5334120" y="6248520"/>
            <a:ext cx="2057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legro BT"/>
              </a:rPr>
              <a:t>M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WordArt 8"/>
          <p:cNvSpPr txBox="1"/>
          <p:nvPr/>
        </p:nvSpPr>
        <p:spPr>
          <a:xfrm>
            <a:off x="7696080" y="457200"/>
            <a:ext cx="486000" cy="11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?</a:t>
            </a:r>
            <a:endParaRPr b="1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402120" y="457200"/>
            <a:ext cx="461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Name the highligh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letter par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1540800" y="5791320"/>
            <a:ext cx="231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Elephant"/>
              </a:rPr>
              <a:t>H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1"/>
          <p:cNvSpPr/>
          <p:nvPr/>
        </p:nvSpPr>
        <p:spPr>
          <a:xfrm>
            <a:off x="151560" y="646128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for NEXT questi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5257800" y="533520"/>
            <a:ext cx="3200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1 East Duke Str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ley, N.C.  281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 15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380880" y="1828800"/>
            <a:ext cx="327672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Phi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380880" y="2362320"/>
            <a:ext cx="8305920" cy="312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s your summer been?  Not too hot I hope.   Did you get to visit your grandparents?  Did you go on your trip to Toronto as you had hoped?  They say Toronto is a beautiful c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my second season at Camp Bellaire.  I just passed my swimming test.  Now I can swim out to the raft and also use the boats.  To pass I had to jump into the water with my clothes on (as if I had just fallen out of a boat).  Then I had to take them off down to my trunks, even my shoes and socks, and finally swim back to shore.  It was tough, but I did 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looking forward to seeing you soon.  There is lots of news to catch up 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6858000" y="25146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334120" y="586728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frien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334120" y="6248520"/>
            <a:ext cx="2057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legro BT"/>
              </a:rPr>
              <a:t>M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WordArt 8"/>
          <p:cNvSpPr txBox="1"/>
          <p:nvPr/>
        </p:nvSpPr>
        <p:spPr>
          <a:xfrm>
            <a:off x="3352680" y="1219320"/>
            <a:ext cx="486000" cy="11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?</a:t>
            </a:r>
            <a:endParaRPr b="1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249840" y="228600"/>
            <a:ext cx="461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Name the highligh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letter par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1528560" y="5791320"/>
            <a:ext cx="242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Elephant"/>
              </a:rPr>
              <a:t>Gree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151560" y="646128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for NEXT questi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5257800" y="533520"/>
            <a:ext cx="3200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1 East Duke Str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ley, N.C.  281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 15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380880" y="1828800"/>
            <a:ext cx="3276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Phi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380880" y="2362320"/>
            <a:ext cx="8305920" cy="312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s your summer been?  Not too hot I hope.   Did you get to visit your grandparents?  Did you go on your trip to Toronto as you had hoped?  They say Toronto is a beautiful c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my second season at Camp Bellaire.  I just passed my swimming test.  Now I can swim out to the raft and also use the boats.  To pass I had to jump into the water with my clothes on (as if I had just fallen out of a boat).  Then I had to take them off down to my trunks, even my shoes and socks, and finally swim back to shore.  It was tough, but I did 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looking forward to seeing you soon.  There is lots of news to catch up 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6858000" y="25146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5334120" y="586728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frien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5334120" y="6248520"/>
            <a:ext cx="2057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legro BT"/>
              </a:rPr>
              <a:t>M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WordArt 8"/>
          <p:cNvSpPr txBox="1"/>
          <p:nvPr/>
        </p:nvSpPr>
        <p:spPr>
          <a:xfrm>
            <a:off x="3962520" y="2819520"/>
            <a:ext cx="485640" cy="11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?</a:t>
            </a:r>
            <a:endParaRPr b="1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249840" y="228600"/>
            <a:ext cx="461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Name the highligh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letter par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0"/>
          <p:cNvSpPr/>
          <p:nvPr/>
        </p:nvSpPr>
        <p:spPr>
          <a:xfrm>
            <a:off x="1542600" y="5791320"/>
            <a:ext cx="145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Elephant"/>
              </a:rPr>
              <a:t>B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1"/>
          <p:cNvSpPr/>
          <p:nvPr/>
        </p:nvSpPr>
        <p:spPr>
          <a:xfrm>
            <a:off x="151560" y="646128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for NEXT questi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5257800" y="533520"/>
            <a:ext cx="3200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1 East Duke Str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ley, N.C.  281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 15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380880" y="1828800"/>
            <a:ext cx="3276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Phi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380880" y="2362320"/>
            <a:ext cx="8305920" cy="312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s your summer been?  Not too hot I hope.   Did you get to visit your grandparents?  Did you go on your trip to Toronto as you had hoped?  They say Toronto is a beautiful c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my second season at Camp Bellaire.  I just passed my swimming test.  Now I can swim out to the raft and also use the boats.  To pass I had to jump into the water with my clothes on (as if I had just fallen out of a boat).  Then I had to take them off down to my trunks, even my shoes and socks, and finally swim back to shore.  It was tough, but I did 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looking forward to seeing you soon.  There is lots of news to catch up 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6858000" y="25146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5334120" y="5867280"/>
            <a:ext cx="25905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frien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5334120" y="6248520"/>
            <a:ext cx="2057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legro BT"/>
              </a:rPr>
              <a:t>M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WordArt 8"/>
          <p:cNvSpPr txBox="1"/>
          <p:nvPr/>
        </p:nvSpPr>
        <p:spPr>
          <a:xfrm>
            <a:off x="7620120" y="5105520"/>
            <a:ext cx="485640" cy="11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?</a:t>
            </a:r>
            <a:endParaRPr b="1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49840" y="228600"/>
            <a:ext cx="461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Name the highligh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letter par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1532880" y="5791320"/>
            <a:ext cx="20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Elephant"/>
              </a:rPr>
              <a:t>Clo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151560" y="646128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for NEXT questi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5257800" y="533520"/>
            <a:ext cx="3200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1 East Duke Str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ley, N.C.  281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 15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380880" y="1828800"/>
            <a:ext cx="3276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Phi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380880" y="2362320"/>
            <a:ext cx="8305920" cy="312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s your summer been?  Not too hot I hope.   Did you get to visit your grandparents?  Did you go on your trip to Toronto as you had hoped?  They say Toronto is a beautiful c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my second season at Camp Bellaire.  I just passed my swimming test.  Now I can swim out to the raft and also use the boats.  To pass I had to jump into the water with my clothes on (as if I had just fallen out of a boat).  Then I had to take them off down to my trunks, even my shoes and socks, and finally swim back to shore.  It was tough, but I did 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looking forward to seeing you soon.  There is lots of news to catch up 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6858000" y="25146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5334120" y="586728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frien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5334120" y="6248520"/>
            <a:ext cx="20574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legro BT"/>
              </a:rPr>
              <a:t>M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WordArt 8"/>
          <p:cNvSpPr txBox="1"/>
          <p:nvPr/>
        </p:nvSpPr>
        <p:spPr>
          <a:xfrm>
            <a:off x="7010280" y="5562720"/>
            <a:ext cx="486000" cy="11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?</a:t>
            </a:r>
            <a:endParaRPr b="1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249840" y="228600"/>
            <a:ext cx="461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Name the highligh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letter par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1526040" y="5791320"/>
            <a:ext cx="268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Elephant"/>
              </a:rPr>
              <a:t>Sign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151560" y="646128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for NEXT questi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7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WordArt 2"/>
          <p:cNvSpPr txBox="1"/>
          <p:nvPr/>
        </p:nvSpPr>
        <p:spPr>
          <a:xfrm>
            <a:off x="838080" y="228600"/>
            <a:ext cx="632484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Now you know 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how to write a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friendly letter!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4" name="Picture 3" descr="BD05415_"/>
          <p:cNvPicPr/>
          <p:nvPr/>
        </p:nvPicPr>
        <p:blipFill>
          <a:blip r:embed="rId1"/>
          <a:stretch/>
        </p:blipFill>
        <p:spPr>
          <a:xfrm>
            <a:off x="4267080" y="3200400"/>
            <a:ext cx="4237200" cy="339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5" name=""/>
          <p:cNvGraphicFramePr/>
          <p:nvPr/>
        </p:nvGraphicFramePr>
        <p:xfrm>
          <a:off x="4267080" y="3124080"/>
          <a:ext cx="609840" cy="60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67080" y="3124080"/>
                    <a:ext cx="6098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Text Box 5"/>
          <p:cNvSpPr/>
          <p:nvPr/>
        </p:nvSpPr>
        <p:spPr>
          <a:xfrm>
            <a:off x="0" y="5715000"/>
            <a:ext cx="44956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sentation by Barbara Cloninger-June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iz included by Vanda Sue Bell-September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5257800" y="533520"/>
            <a:ext cx="3200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1 East Duke Str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ley, N.C.  281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 15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380880" y="1828800"/>
            <a:ext cx="3276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Phi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380880" y="2362320"/>
            <a:ext cx="8305920" cy="312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s your summer been?  Not too hot I hope.   Did you get to visit your grandparents?  Did you go on your trip to Toronto as you had hoped?  They say Toronto is a beautiful c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my second season at Camp Bellaire.  I just passed my swimming test.  Now I can swim out to the raft and also use the boats.  To pass I had to jump into the water with my clothes on (as if I had just fallen out of a boat).  Then I had to take them off down to my trunks, even my shoes and socks, and finally swim back to shore.  It was tough, but I did 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looking forward to seeing you soon.  There is lots of news to catch up 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6858000" y="25146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5334120" y="586728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frien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5334120" y="6248520"/>
            <a:ext cx="2057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legro BT"/>
              </a:rPr>
              <a:t>M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1" descr=""/>
          <p:cNvPicPr/>
          <p:nvPr/>
        </p:nvPicPr>
        <p:blipFill>
          <a:blip r:embed="rId1"/>
          <a:stretch/>
        </p:blipFill>
        <p:spPr>
          <a:xfrm>
            <a:off x="528480" y="1828800"/>
            <a:ext cx="8087040" cy="41814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2567160" y="2409840"/>
            <a:ext cx="4724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5" descr="j0351406"/>
          <p:cNvPicPr/>
          <p:nvPr/>
        </p:nvPicPr>
        <p:blipFill>
          <a:blip r:embed="rId2"/>
          <a:stretch/>
        </p:blipFill>
        <p:spPr>
          <a:xfrm>
            <a:off x="4853160" y="733320"/>
            <a:ext cx="3963960" cy="3762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" descr="j0352060"/>
          <p:cNvPicPr/>
          <p:nvPr/>
        </p:nvPicPr>
        <p:blipFill>
          <a:blip r:embed="rId3"/>
          <a:stretch/>
        </p:blipFill>
        <p:spPr>
          <a:xfrm>
            <a:off x="128520" y="428760"/>
            <a:ext cx="342900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2041560" y="1158840"/>
            <a:ext cx="17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876920" y="533520"/>
            <a:ext cx="3886200" cy="1295280"/>
          </a:xfrm>
          <a:prstGeom prst="rect">
            <a:avLst/>
          </a:prstGeom>
          <a:solidFill>
            <a:srgbClr val="d82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11 East Duke Str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ley, N.C.  281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gust 15,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4"/>
          <p:cNvSpPr/>
          <p:nvPr/>
        </p:nvSpPr>
        <p:spPr>
          <a:xfrm flipV="1">
            <a:off x="3733920" y="1218960"/>
            <a:ext cx="10666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685800" y="2666880"/>
            <a:ext cx="78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first part of a friendly letter is called the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head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 The heading includes the writer’s address and the date.  The heading is written in the upper right-hand corner of the pag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j0199711"/>
          <p:cNvPicPr/>
          <p:nvPr/>
        </p:nvPicPr>
        <p:blipFill>
          <a:blip r:embed="rId1"/>
          <a:stretch/>
        </p:blipFill>
        <p:spPr>
          <a:xfrm>
            <a:off x="228600" y="533520"/>
            <a:ext cx="1676520" cy="1828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2819520" y="969840"/>
            <a:ext cx="17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5257800" y="533520"/>
            <a:ext cx="22860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11 East Duke Str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ley, N.C.  2816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15, 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4"/>
          <p:cNvSpPr/>
          <p:nvPr/>
        </p:nvSpPr>
        <p:spPr>
          <a:xfrm flipV="1">
            <a:off x="3886200" y="1142640"/>
            <a:ext cx="1371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4800600" y="243828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r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304920" y="2286000"/>
            <a:ext cx="3276360" cy="581400"/>
          </a:xfrm>
          <a:prstGeom prst="rect">
            <a:avLst/>
          </a:prstGeom>
          <a:solidFill>
            <a:srgbClr val="d82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r Phi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7"/>
          <p:cNvSpPr/>
          <p:nvPr/>
        </p:nvSpPr>
        <p:spPr>
          <a:xfrm flipH="1" flipV="1">
            <a:off x="3657240" y="2514600"/>
            <a:ext cx="11430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457200" y="4033800"/>
            <a:ext cx="7620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cond part of the friendly letter is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ree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It is written under the heading at the left margin.  It begins with a capital letter and ends with a com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" descr="j0212697"/>
          <p:cNvPicPr/>
          <p:nvPr/>
        </p:nvPicPr>
        <p:blipFill>
          <a:blip r:embed="rId1"/>
          <a:stretch/>
        </p:blipFill>
        <p:spPr>
          <a:xfrm>
            <a:off x="6858000" y="2133720"/>
            <a:ext cx="1434960" cy="1809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j0197734"/>
          <p:cNvPicPr/>
          <p:nvPr/>
        </p:nvPicPr>
        <p:blipFill>
          <a:blip r:embed="rId2"/>
          <a:stretch/>
        </p:blipFill>
        <p:spPr>
          <a:xfrm>
            <a:off x="533520" y="304920"/>
            <a:ext cx="1276200" cy="17110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304920" y="457200"/>
            <a:ext cx="6324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want to say to the person you are writing to?  We put what we want to say in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od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letter. 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od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letter is in paragraph form.  The first line of each paragraph is inden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890640" y="3886200"/>
            <a:ext cx="7391520" cy="2531160"/>
          </a:xfrm>
          <a:prstGeom prst="rect">
            <a:avLst/>
          </a:prstGeom>
          <a:solidFill>
            <a:srgbClr val="d82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has your summer been?  Not too hot I hope.   Did you get to visit your grandparents?  Did you go on your trip to Toronto as you had hoped?  They say Toronto is a beautiful 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"/>
          <p:cNvSpPr/>
          <p:nvPr/>
        </p:nvSpPr>
        <p:spPr>
          <a:xfrm>
            <a:off x="1066680" y="4191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9" descr="j0359575"/>
          <p:cNvPicPr/>
          <p:nvPr/>
        </p:nvPicPr>
        <p:blipFill>
          <a:blip r:embed="rId1"/>
          <a:stretch/>
        </p:blipFill>
        <p:spPr>
          <a:xfrm>
            <a:off x="6858000" y="914400"/>
            <a:ext cx="1833480" cy="1641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2043000" y="1158840"/>
            <a:ext cx="162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h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5257800" y="533520"/>
            <a:ext cx="3200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1 East Duke Str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ley, N.C.  281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 15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"/>
          <p:cNvSpPr/>
          <p:nvPr/>
        </p:nvSpPr>
        <p:spPr>
          <a:xfrm flipV="1">
            <a:off x="2971800" y="1143000"/>
            <a:ext cx="2286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4419720" y="198108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gr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380880" y="1828800"/>
            <a:ext cx="3276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Phi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7"/>
          <p:cNvSpPr/>
          <p:nvPr/>
        </p:nvSpPr>
        <p:spPr>
          <a:xfrm flipH="1" flipV="1">
            <a:off x="3733920" y="2057040"/>
            <a:ext cx="7617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380880" y="2743200"/>
            <a:ext cx="8305920" cy="3765600"/>
          </a:xfrm>
          <a:prstGeom prst="rect">
            <a:avLst/>
          </a:prstGeom>
          <a:solidFill>
            <a:srgbClr val="d82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has your summer been?  Not too hot I hope.   Did you get to visit your grandparents?  Did you go on your trip to Toronto as you had hoped?  They say Toronto is a beautiful cit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my second season at Camp Bellaire.  I just passed my swimming test.  Now I can swim out to the raft and also use the boats.  To pass I had to jump into the water with my clothes on (as if I had just fallen out of a boat).  Then I had to take them off down to my trunks, even my shoes and socks, and finally swim back to shore.  It was tough, but I did i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’m looking forward to seeing you soon.  There is lots of news to catch up 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6553080" y="213372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1"/>
          <p:cNvSpPr/>
          <p:nvPr/>
        </p:nvSpPr>
        <p:spPr>
          <a:xfrm>
            <a:off x="693432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2" descr="j0356441"/>
          <p:cNvPicPr/>
          <p:nvPr/>
        </p:nvPicPr>
        <p:blipFill>
          <a:blip r:embed="rId1"/>
          <a:stretch/>
        </p:blipFill>
        <p:spPr>
          <a:xfrm>
            <a:off x="0" y="0"/>
            <a:ext cx="1806480" cy="1527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685800" y="990720"/>
            <a:ext cx="7467480" cy="52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los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ign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the last parts on the friendly letter.  Your closing might b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 frie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s trul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ncerel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 s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los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lined up directly under heading.  It begins with a capital letter and ends with a com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ign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your name written directly under the clos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j0318704"/>
          <p:cNvPicPr/>
          <p:nvPr/>
        </p:nvPicPr>
        <p:blipFill>
          <a:blip r:embed="rId1"/>
          <a:stretch/>
        </p:blipFill>
        <p:spPr>
          <a:xfrm>
            <a:off x="6705720" y="1828800"/>
            <a:ext cx="1544400" cy="18144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j0318708"/>
          <p:cNvPicPr/>
          <p:nvPr/>
        </p:nvPicPr>
        <p:blipFill>
          <a:blip r:embed="rId2"/>
          <a:stretch/>
        </p:blipFill>
        <p:spPr>
          <a:xfrm>
            <a:off x="380880" y="1981080"/>
            <a:ext cx="1168560" cy="18162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4T18:35:35Z</dcterms:created>
  <dc:creator>Barbara Cloninger</dc:creator>
  <dc:description/>
  <dc:language>en-US</dc:language>
  <cp:lastModifiedBy>teacher</cp:lastModifiedBy>
  <dcterms:modified xsi:type="dcterms:W3CDTF">2012-02-08T18:57:17Z</dcterms:modified>
  <cp:revision>42</cp:revision>
  <dc:subject>Language Arts</dc:subject>
  <dc:title>How Do I Write a Friendly Letter</dc:title>
</cp:coreProperties>
</file>